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F9CC-B3A5-46F8-958B-16C02BC8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0D7E-9E1F-4866-9194-8FFE6A67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D560-39F5-43D5-9B81-86A8CB2C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EAA4-B132-4CBF-9E9E-90CE7527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28DD-42A0-4952-A1AB-82F1F798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2C48-8FF6-4F11-9114-EE1E61A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1EF5-14AB-42A1-9388-B7D5FA3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343A-E322-4809-8F16-1276FFA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FC0-F99E-4FC0-B3FE-A1D0627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9442-8EC1-4F30-82F9-29CDA3B1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44B4-24B9-417D-A900-C3A4E87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2261-5EB5-40E1-A2AF-49D2A714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8D7A-E72D-40C4-92BB-CCA643F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C459-E526-41CB-AAC0-B482561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E579-BC82-4B08-A3D5-FFF16005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327-6089-467D-81D5-95361F9E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4BD9-DEED-40D2-97D3-E88E3C4F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3D62-DEB6-4767-AD64-8661088B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FA34A-F88B-4485-B14A-4A0527B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06EE-2D13-43F3-8473-5113146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02E8-0EC4-4010-B657-6FA6E82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D4F4-4823-4D37-8933-C842BD0E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D33D-3F16-4B84-91DB-19B9ACD3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0949-4D05-47B7-8321-324D507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063-D995-46A9-B061-E94A274F42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E23-25F3-477D-B902-16FC266803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s.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8320" y="762120"/>
            <a:ext cx="44956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s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account of the nations that were left to try Israel, v. 1-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the people provoked the Lord, v. 5-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are delivered into the power of the king of Mesopotamia (Cushan-rishathaim), by whom they are enslaved eight years, v. 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niel is raised up as their deliverer; he defeats the king of Mesopotamia, delivers Israel, and the land enjoys peace for forty years, v. 9-1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48320" y="762120"/>
            <a:ext cx="44956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again rebel, and are delivered into the hand of the king of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Moa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by whom they are enslaved eighteen years, v. 12-1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are delivered by Ehud, who kills Eglon, king of Moab, and slays ten thousand Moabites, and the land rests fourscore years, v. 15-3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Delivers Israel From The Philistines -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ges 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Israelites again rebel against God, and they are delivered into the hands of Jabin, king of Canaan, v. 1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09880" y="1676520"/>
            <a:ext cx="914400" cy="251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24280" y="380880"/>
            <a:ext cx="426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dges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ry unto God, and he raises up Deborah and Barak to deliver them, v. 3-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account of Heber the Kenite, v. 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rak attacks Sisera, captain of Jabin's army, at the river Kishon, and gives him a total overthrow, v. 12-1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sera leaves his chariot, and runs away on foot; enters the tent of Jael, the wife of Heber, by whom he is slain, while hiding himself in her tent, v. 17-2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 v. 2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4419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4952880"/>
            <a:ext cx="2362320" cy="11912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590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Terry W. Benton</cp:lastModifiedBy>
  <dcterms:modified xsi:type="dcterms:W3CDTF">2005-01-29T16:17:15Z</dcterms:modified>
  <cp:revision>6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